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C79-2F22-4881-87F2-BE3B4EF7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57F-E81C-494D-956D-B7D44BB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DEA95-2A6B-4425-A2C8-D5C1D700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905B-F0FA-4731-8784-AADE97C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3E6BE-076A-4ABD-A637-B2EDC2A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DCFCE-E4CA-4CE6-B534-A4E898D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938F-2080-4315-BCBC-2F281E7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89031-D6E7-49C4-A0F7-359054C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C153F-9249-4C92-A6B6-B28B14A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E316-A040-45F3-BB9E-57846EE1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0ED9D-087A-4517-801B-5FE84F2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7E29E-DFD7-4EE4-BCC1-2BBC7415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C8A-0B7B-425E-AB01-0A4D100A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E2A9B-04F9-4C7F-8AD1-C1FA6FF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B8F14-5464-44DF-9F4A-793DC85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541CC-F326-475F-B02A-228C582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EA883-A660-4204-98B4-C4E7D58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FD7D8-B609-4AD8-9EC0-4833E395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F6401-DDF0-459D-A21D-95AAD3D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2C388-B746-4C9E-8535-385855B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AD40-84E9-46E9-9EEA-C50043F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DB447-E3EB-43CD-8CAD-5EA2009E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809F0-DF55-4CFD-8F61-235C1AFF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F4B-043E-4098-8456-248FFA5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17193-C785-46FF-B4FE-62DEA313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73202-0AAC-4B5E-9BF8-AE43AC68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8471D-D4B2-4F66-872E-B37A4B7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4F835-CD72-42D5-8455-D184A505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EB740-CBF3-4FFF-9677-B85F338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91078-5ECC-40F3-B40F-9E51C4C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5E4E4-5775-49F3-BE25-C29D5B45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64B32-6DB1-41A4-8DE9-C95D30A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3B3DA-93D6-4078-8AA9-30F2690C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39FE7-E7FC-458C-BD81-4092A59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082-6CF5-4918-8627-F2502DFB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89889-D026-4F44-A4B7-2AFD635C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78646-407B-4BD4-AC9F-ADFDE717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3C69-BD6B-42A5-9178-4B714D4A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EC229-BEB8-45FC-A67F-4402AB57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4DEA2-69AF-4508-B128-BAA7ED4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2AFD4-463E-4723-905C-CAAE801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48180-E1BD-4B4C-935C-B9E45DC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1109-6188-4471-BF8D-2270E7EE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014D4-D700-4037-A62D-24CE8A0C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B297C-05AC-41E9-A07C-4227222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92C-D459-4B1B-963B-F0A92339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EF4AC-1CA1-42F5-86E7-CA5D1CF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A8CF5-48FB-45D3-B05E-0DCB34A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478FD-FED4-4B08-9FE3-16E7045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41129-C11E-49EA-ADB3-B629E8A3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F9894-7D58-46BD-98DE-00C5783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02E-A204-4F9A-B0DF-AC10141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741-FFB8-46FB-B032-0A6A14BF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B82E-DB60-45D8-835C-4E53B386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BF5E-5DBC-4DBA-AB41-ACC23C15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7B9E-0A16-4EEA-9604-D2362CA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DDD-FEA6-4141-8231-406B74B2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A8FB-D06B-4F72-8C9E-B99DD83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75C-F9C1-4CFE-99A2-A911D23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81A8-C9C4-4D80-8A89-056568D5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A455-579B-4C8E-8AD7-52F3A2E8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A084-18EF-4513-A545-62417049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6D4F-0E18-4D93-94CD-E781B78C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BF7F-2DED-41EE-B5B5-C8D6CED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3D34-A432-4DA4-A597-C5176A4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1366-A295-41B1-92BC-CEE55973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BD76-59BF-42A6-A941-49CFF4C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6B9-A829-41FA-9269-30BB9E9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B58E-0E89-459D-A4D1-CF7774D5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ECA6-9A97-41B3-B227-CE37ECD6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0E07-76E7-4781-9640-0C91C7B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1427-6D2F-43C9-AC73-15EE7EF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2484-1EF7-4F0E-973F-6B5C0D3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88F7-75CD-40A1-8C9A-12A68B3D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E81E-999D-4CF8-897A-FE89F0B1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65C3-784F-44BD-956F-6C5FB65B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BBDC-ED99-481D-9DE0-DE9423CA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1D4A-D393-4B35-BE4C-C70BB358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53D-20F4-4D87-807A-B5BDDC6F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FB40-C562-47BB-A597-A353973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3F43-BEA7-47DB-8736-F1039FE0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44AE-7CED-4340-9F10-D466C86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0284-C388-4CC2-B58C-8AAE967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4FBB-F057-4500-859A-901BBCA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BB3B-5DF0-491E-905D-45204FC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480C-8468-411E-A2AC-28B49C1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1A99-BF71-4D11-BB90-B54B67CB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11B3-6BBB-4126-8880-85A3D656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8A69-6ADA-4697-BCDE-9D98B44C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F4F-AC29-4349-8924-2EB6C85E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A2A2-C844-4235-A7B1-55428EFE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9F4A-8CE9-462D-926C-A07487A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8A74-E7A6-4B01-9D81-C04F5E5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ABD0-8A77-470B-94FB-F8FEB61D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93BA-2CC6-4550-9792-27B07367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FAF2-37A3-4EA7-B8AA-862A0FD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490BD-C5A8-478E-84B6-C86D009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F85D-EBDB-4A30-A83D-36EA868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9A3C6-3125-4FB2-9B1D-70530683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B842-1302-4A30-93A0-557F845A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FA4-E352-4A00-9860-57FA8CA2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2DDD-076F-44EE-9386-E1E348AF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CDD9-7060-47D8-9FFE-08871952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4C7C-AE01-41CB-B5AC-BE0AEB5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ADC33-51F0-4858-A06B-D2A7F6B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DBA2-571D-4F34-AA50-3BFB611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E1C6-7B13-4E02-9661-F25F6B9D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61FE2-44DE-4C3B-B9B8-B7FDBB8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EB41-383B-4C76-B144-11A8377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7051-C574-4A1D-A2BB-260DC71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D6E3-725D-4BA5-9FA9-4FB61CD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00F-B6BA-4A97-B14C-8C5CFDB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66E79-6CA6-41D7-ABCD-B2CFFB1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5588E-251D-4824-B967-F00809F5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17055-E7F5-4C1E-8AC7-BEF75335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D060-445F-4036-BDD0-CEEC8E75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9E39-DAD0-4CA1-A960-56B46031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06084-DFDD-48E3-A897-9CB59B8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1BFE-9967-4639-AE23-37946A8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2035-F5BE-4F73-BE1F-FE9BFEE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0EE0B-46B4-46AB-8047-567612B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4D88-0951-4BBD-A82D-546117A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3EC-6351-4E47-9D94-3C25F6F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73EF-5996-4441-BEE0-7DB9800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4391-26F7-494F-9DB8-2620FE3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E4CE-5A26-4D94-BA61-45EF3E69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468F8-6333-4A05-9E84-EB8E542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AF34-6F88-47C6-975E-1883D94B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4D6C-F08E-4DC7-A0FA-905C9B74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3821-EA52-4A4E-8406-9103AAF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5435-AB16-406F-ABFD-78744D92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2A75-9F64-492A-B679-7688FB7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DC522-5BFA-4A82-97F0-2FFC4656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B1-C29C-4941-9E01-95A3FC5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E0BC-280B-43B6-90D0-8D3242B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477A-309C-4766-B178-043C1EF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32DAB-D0EB-44BE-A934-307917E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31A9-478B-4640-A436-EE348D9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C57C8-F8F2-49E5-A55F-E3ADAB12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E1EB-FB78-4E77-9AFE-77F34947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EBF1-383F-48D7-8096-8D89BB8E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FF3B-BFE9-4E07-B973-0AF989BA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8E542-942B-4CE9-8DEC-98FEA27B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68CAD-BF04-46CC-8D18-BCF17DB5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8899-1C2F-4BAD-B5AE-6D68D3BB113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65B-E001-4E88-AA8D-802AF51F339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0C8-8322-4698-89B9-0EE87DF30BC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382-4630-4A4E-BB32-F50FBF37E3C1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B63-B201-4762-8C4E-5052A834ABE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17F5-59AF-45ED-BD2E-F5964B4E5B8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CFB2-804A-4E16-83CF-F3410B3CB12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167-4D71-4535-B259-7CFA3E816FD4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823-24F0-40CB-A5B1-1744CC3E4C8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5B1-0BC1-4346-990C-53B10486540A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4F27-3E78-454D-8245-FAEBD4FF09C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847-C86A-4D76-A363-99329097696B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D088-A40F-4BC1-A0FF-291E58ED349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F7C-8F71-486A-BFDC-7AC57FF3E44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01B-27D9-4EBC-BBFF-83ACE6CFE4F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BC5-2718-43A8-BC27-9186FDBBCD0A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C2C-565A-466D-AC05-FEAB47CFBBF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9AD-4E1D-4D8E-90AD-220D5AD9007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674F-88FE-437E-9059-22BD92B8005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A5A-EE07-41EB-8E44-30A7D313042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2F4-084A-431C-A44C-F59AF8C7AF6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2A19-8AB8-4A02-BCBF-92BBC305B828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618-5C55-4B86-84AB-D26CA0DDA95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3162240" y="42037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44440" y="3295800"/>
            <a:ext cx="18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Unit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806480" y="3125880"/>
            <a:ext cx="7337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ve you rea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reasure Islan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y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244440" y="3997440"/>
            <a:ext cx="851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603520" y="4761000"/>
            <a:ext cx="4660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ction B 2a-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2"/>
          <p:cNvSpPr/>
          <p:nvPr/>
        </p:nvSpPr>
        <p:spPr>
          <a:xfrm>
            <a:off x="253368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760320" y="1419120"/>
            <a:ext cx="791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A country music song changed her life for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Please telephone me if you are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the day of our meeting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不得不改变我们会晤的日期，请给我打个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She had to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chan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her way of life when her baby came on the sce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的孩子出世之后，她不得不改变生活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252108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812880" y="1447920"/>
            <a:ext cx="780732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永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肯定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否定句中可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hey thought that their empire w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last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们认为他们的王国会永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eacher is powerful in a child's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fore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老师在孩子们的心中永远是强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240048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560520" y="1432080"/>
            <a:ext cx="8310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While she was studying abroad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ngland,she heard a song full of fe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bout returning home on th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国外；到国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句中可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状语、表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修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后置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ravellin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要到国外旅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lived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br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for many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在国外居住了许多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269712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560520" y="1422360"/>
            <a:ext cx="8145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Many songs these days are just about modern life in the US,such as the importance of money and success,but not about belonging to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现代的；当代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'd rather stay in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hot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希望住在一家现代化的旅馆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n this part of the city, you can see ancient and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oder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buildings next to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这座城市的这个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可以看到鳞次栉比的古代的与现代的建筑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609480" y="1254240"/>
            <a:ext cx="7639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ucces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此可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成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用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成功的事；取得成就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st month's flower show was a grea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个月的花展举办的非常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ilure is the moth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u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失败是成功之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253368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20560" y="1254240"/>
            <a:ext cx="785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及物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属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常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介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搭配使用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无进行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用于被动语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blue sweat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 Ming.His mother bought it for him yesterday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件蓝色毛衣是李明的，他的妈妈昨天给他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 t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或代词宾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不能接物主代词，也不能接名词所有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is boo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long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in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本书是我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250992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/>
          <p:cNvSpPr/>
          <p:nvPr/>
        </p:nvSpPr>
        <p:spPr>
          <a:xfrm>
            <a:off x="2255760" y="2476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441360" y="1469880"/>
            <a:ext cx="81072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He’s sold more than 120 million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此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唱片；记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表示某人录制的唱片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spoke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 record spoken by M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s a result of this meeting, he made his first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于这次会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制作了他的第一张唱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e did very well, but failed to break th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rec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做得很出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未破纪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2246400" y="247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96880" y="1432080"/>
            <a:ext cx="7769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百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与具体数字连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其后不能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面直接接名词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people in our city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我们的城市有五百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可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o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构成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百万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后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名词复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John has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million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of f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乔布斯有数百万的粉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矩形 6" descr=""/>
          <p:cNvPicPr/>
          <p:nvPr/>
        </p:nvPicPr>
        <p:blipFill>
          <a:blip r:embed="rId1"/>
          <a:stretch/>
        </p:blipFill>
        <p:spPr>
          <a:xfrm>
            <a:off x="2987640" y="4222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662040" y="1281240"/>
            <a:ext cx="7547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o does this T-shirt belong _____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in           B. on          C. to        D.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Jim's name is on the book, so it m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long to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his        B. him        C. he       D.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Although he hasn't _____ to America,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nows a lot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been      B. gone     C. went 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6369120" y="128124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2987640" y="31622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4678200" y="43340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矩形 6" descr=""/>
          <p:cNvPicPr/>
          <p:nvPr/>
        </p:nvPicPr>
        <p:blipFill>
          <a:blip r:embed="rId1"/>
          <a:stretch/>
        </p:blipFill>
        <p:spPr>
          <a:xfrm>
            <a:off x="2987640" y="4222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219240" y="1281240"/>
            <a:ext cx="8654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They keep pouring out ____ trucks every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two millions              B. mill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two millions of          D. millio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 Look! The red bike must belong to your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father's      B. him     C. father     D. sister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 --- I'd like you to tell me someth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ennongj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-- I'm sorry, but neither Jack nor I ____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 have been              B.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 have gone              D. 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4924440" y="128124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7867800" y="277164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6673680" y="487980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thCALG29RT"/>
          <p:cNvPicPr/>
          <p:nvPr/>
        </p:nvPicPr>
        <p:blipFill>
          <a:blip r:embed="rId1"/>
          <a:stretch/>
        </p:blipFill>
        <p:spPr>
          <a:xfrm>
            <a:off x="561960" y="461880"/>
            <a:ext cx="3978360" cy="29559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4762440" y="868320"/>
            <a:ext cx="391644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country music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乡村音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thCA8YONYC"/>
          <p:cNvPicPr/>
          <p:nvPr/>
        </p:nvPicPr>
        <p:blipFill>
          <a:blip r:embed="rId2"/>
          <a:srcRect l="0" t="10947" r="0" b="0"/>
          <a:stretch/>
        </p:blipFill>
        <p:spPr>
          <a:xfrm>
            <a:off x="4762440" y="3710160"/>
            <a:ext cx="4240440" cy="30319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149400" y="3989520"/>
            <a:ext cx="46130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abroad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adv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在国外，到国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u=1137319866,1898795034&amp;fm=23&amp;gp=0"/>
          <p:cNvPicPr/>
          <p:nvPr/>
        </p:nvPicPr>
        <p:blipFill>
          <a:blip r:embed="rId1"/>
          <a:stretch/>
        </p:blipFill>
        <p:spPr>
          <a:xfrm>
            <a:off x="4948200" y="114480"/>
            <a:ext cx="3255840" cy="48830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4049640" y="4897440"/>
            <a:ext cx="484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modern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adj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现代的，当代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thCA8TX9UW"/>
          <p:cNvPicPr/>
          <p:nvPr/>
        </p:nvPicPr>
        <p:blipFill>
          <a:blip r:embed="rId2"/>
          <a:stretch/>
        </p:blipFill>
        <p:spPr>
          <a:xfrm>
            <a:off x="150840" y="560520"/>
            <a:ext cx="4440240" cy="33224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150840" y="3882960"/>
            <a:ext cx="40608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fan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迷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狂热爱好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u=4011444939,1342760342&amp;fm=23&amp;gp=0"/>
          <p:cNvPicPr/>
          <p:nvPr/>
        </p:nvPicPr>
        <p:blipFill>
          <a:blip r:embed="rId1"/>
          <a:stretch/>
        </p:blipFill>
        <p:spPr>
          <a:xfrm>
            <a:off x="203040" y="620640"/>
            <a:ext cx="4537080" cy="3313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u=1143741693,2154917501&amp;fm=11&amp;gp=0"/>
          <p:cNvPicPr/>
          <p:nvPr/>
        </p:nvPicPr>
        <p:blipFill>
          <a:blip r:embed="rId2"/>
          <a:srcRect l="16084" t="0" r="21616" b="0"/>
          <a:stretch/>
        </p:blipFill>
        <p:spPr>
          <a:xfrm>
            <a:off x="4740120" y="2363760"/>
            <a:ext cx="4124520" cy="44942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4950000" y="285840"/>
            <a:ext cx="3914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laughter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笑；笑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71520" y="3882960"/>
            <a:ext cx="40608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beauty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美；美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u=1568909667,4016911574&amp;fm=23&amp;gp=0"/>
          <p:cNvPicPr/>
          <p:nvPr/>
        </p:nvPicPr>
        <p:blipFill>
          <a:blip r:embed="rId1"/>
          <a:srcRect l="4346" t="13668" r="3836" b="10443"/>
          <a:stretch/>
        </p:blipFill>
        <p:spPr>
          <a:xfrm>
            <a:off x="638280" y="647640"/>
            <a:ext cx="7650000" cy="37670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2660760" y="4241880"/>
            <a:ext cx="5054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million     num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一百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u=2328403436,880470461&amp;fm=23&amp;gp=0"/>
          <p:cNvPicPr/>
          <p:nvPr/>
        </p:nvPicPr>
        <p:blipFill>
          <a:blip r:embed="rId1"/>
          <a:srcRect l="0" t="0" r="0" b="12295"/>
          <a:stretch/>
        </p:blipFill>
        <p:spPr>
          <a:xfrm>
            <a:off x="1316160" y="184320"/>
            <a:ext cx="6011640" cy="4200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1039680" y="4384800"/>
            <a:ext cx="75074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record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唱片；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v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录制；录（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361800" y="525600"/>
            <a:ext cx="8290080" cy="98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2a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Discuss the questions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61800" y="1789200"/>
            <a:ext cx="8290080" cy="35859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beve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have a favorite singer or b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Do you have a favorite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at facts do you know about your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avorite singer, band or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>
            <a:off x="1455840" y="247680"/>
            <a:ext cx="7145280" cy="2173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b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ad the passage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mplete the fact sheet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age 63.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71520" y="2711520"/>
            <a:ext cx="85406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untry Music Fact Sheet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re it is from: _________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kind of music it is: _______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010040" y="3705120"/>
            <a:ext cx="4319640" cy="141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e southern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of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435640" y="5657760"/>
            <a:ext cx="3240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ountry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1573200" y="195120"/>
            <a:ext cx="1027080" cy="9115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63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898560" y="1106640"/>
            <a:ext cx="7437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 famous country music place i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ashville: 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 famous country music singe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 number of records he has sol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332160" y="1957320"/>
            <a:ext cx="280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410000" y="3840120"/>
            <a:ext cx="3462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Garth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4737240" y="5533920"/>
            <a:ext cx="2808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20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3:26:19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